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CA8-5FEF-471F-8FE0-97DE4244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BB8-DE5B-4495-AD82-55D16CFE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AA3-2091-4BA0-A8C7-94A7AC00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F90-D697-499A-B1D2-D44252A2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48F-49B3-4CBF-AC7A-B002D361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463-9305-4A15-9DF0-E55D4807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48B-3E98-4A1E-8FF0-4BE5B38B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356-CAC0-4935-B51D-D09E5A5B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F08-8518-4C41-B607-0137C52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0EA-A52C-40FF-8E3A-305E20AD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B10-8853-4612-A99D-489DAFE7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4A2-7D24-4D6B-B999-F4BFE732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7BEC-A5CF-4DA2-88E5-0AF3411BD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6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logo1" descr=""/>
          <p:cNvPicPr/>
          <p:nvPr/>
        </p:nvPicPr>
        <p:blipFill>
          <a:blip r:embed="rId2"/>
          <a:stretch/>
        </p:blipFill>
        <p:spPr>
          <a:xfrm>
            <a:off x="304920" y="6108840"/>
            <a:ext cx="1333440" cy="520560"/>
          </a:xfrm>
          <a:prstGeom prst="rect">
            <a:avLst/>
          </a:prstGeom>
          <a:ln w="0">
            <a:noFill/>
          </a:ln>
        </p:spPr>
      </p:pic>
      <p:pic>
        <p:nvPicPr>
          <p:cNvPr id="43" name="logoStela" descr=""/>
          <p:cNvPicPr/>
          <p:nvPr/>
        </p:nvPicPr>
        <p:blipFill>
          <a:blip r:embed="rId3"/>
          <a:stretch/>
        </p:blipFill>
        <p:spPr>
          <a:xfrm>
            <a:off x="7848720" y="6108840"/>
            <a:ext cx="1041120" cy="520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iretório dos Grupos de Pesquisa no Brasil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esquisa" descr=""/>
          <p:cNvPicPr/>
          <p:nvPr/>
        </p:nvPicPr>
        <p:blipFill>
          <a:blip r:embed="rId4"/>
          <a:stretch/>
        </p:blipFill>
        <p:spPr>
          <a:xfrm>
            <a:off x="1905120" y="1874880"/>
            <a:ext cx="5257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95480" y="1981080"/>
            <a:ext cx="5334120" cy="20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spcAft>
                <a:spcPts val="901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Novidades da versão 4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36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br>
              <a:rPr sz="3600"/>
            </a:br>
            <a:r>
              <a:rPr b="1" i="1" lang="pt-BR" sz="36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(principais re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Garamond Bold"/>
              </a:rPr>
              <a:t>Apresen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43200" y="1981080"/>
            <a:ext cx="6172200" cy="28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ntegração com a Plataforma Lat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Continuidade entre as versões (evolução da pesquisa da institui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spcAft>
                <a:spcPts val="70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003399"/>
                </a:solidFill>
                <a:latin typeface="Times New Roman"/>
              </a:rPr>
              <a:t>Sistema Instituição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como ferramenta de análise da pesquisa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685800"/>
            <a:ext cx="4114800" cy="68580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609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No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esquisa" descr=""/>
          <p:cNvPicPr/>
          <p:nvPr/>
        </p:nvPicPr>
        <p:blipFill>
          <a:blip r:embed="rId3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43200" y="2209680"/>
            <a:ext cx="5943600" cy="24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Relatórios (homep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Indicadores (exporta para Exc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Acompanhamento das atualizações dos grupos da v.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1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Dir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latórios (homepag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43200" y="2209680"/>
            <a:ext cx="5943600" cy="21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Grupos (versão 3.0 e versão 4.0). Individual ou coletivo (s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Sumário das informações da instituição (versões 3.0 e 4.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1447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dicadores: Perfil da Pesqui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5410440" cy="21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da versão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upos da 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Comparativo das ver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Gráficos (arquivo JP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spcAft>
                <a:spcPts val="150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99"/>
                </a:solidFill>
                <a:latin typeface="Times New Roman"/>
              </a:rPr>
              <a:t>Planilhas (arquivo Exc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133720"/>
            <a:ext cx="4876920" cy="1861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a instituição……Área de Conhecimento</a:t>
            </a:r>
            <a:br>
              <a:rPr sz="2000"/>
            </a:b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99ff"/>
                </a:solidFill>
                <a:latin typeface="Times New Roman"/>
              </a:rPr>
              <a:t>órgão/unidade………..….área/grande área</a:t>
            </a:r>
            <a:br>
              <a:rPr sz="2000"/>
            </a:b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Grupos de pesquisa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Pesquisadores (por titulação)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Estudantes (por titulação)</a:t>
            </a:r>
            <a:br>
              <a:rPr sz="2000"/>
            </a:b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cc3300"/>
                </a:solidFill>
                <a:latin typeface="Times New Roman"/>
              </a:rPr>
              <a:t>Linhas de pesqu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78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esquisa" descr=""/>
          <p:cNvPicPr/>
          <p:nvPr/>
        </p:nvPicPr>
        <p:blipFill>
          <a:blip r:embed="rId2"/>
          <a:stretch/>
        </p:blipFill>
        <p:spPr>
          <a:xfrm>
            <a:off x="7302600" y="0"/>
            <a:ext cx="1841400" cy="1746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71600" y="685800"/>
            <a:ext cx="5486400" cy="68580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6699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99"/>
                </a:solidFill>
                <a:latin typeface="AGaramond Bold"/>
              </a:rPr>
              <a:t>Sistema Institui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16002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companhamento das atualiza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institui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1676160" cy="104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2209680"/>
            <a:ext cx="5943600" cy="370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lista dinâmica dos líderes da versão 3.0 que ainda não atualizaram os grup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Filtros para facilitar contato com os lí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spcAft>
                <a:spcPts val="1049"/>
              </a:spcAft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3399"/>
                </a:solidFill>
                <a:latin typeface="Times New Roman"/>
              </a:rPr>
              <a:t>E-mail direto a partir do Sistema Instit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124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Recurso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undo" descr=""/>
          <p:cNvPicPr/>
          <p:nvPr/>
        </p:nvPicPr>
        <p:blipFill>
          <a:blip r:embed="rId1"/>
          <a:stretch/>
        </p:blipFill>
        <p:spPr>
          <a:xfrm>
            <a:off x="0" y="0"/>
            <a:ext cx="25160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logo1" descr=""/>
          <p:cNvPicPr/>
          <p:nvPr/>
        </p:nvPicPr>
        <p:blipFill>
          <a:blip r:embed="rId2"/>
          <a:stretch/>
        </p:blipFill>
        <p:spPr>
          <a:xfrm>
            <a:off x="304920" y="6108840"/>
            <a:ext cx="1333440" cy="520560"/>
          </a:xfrm>
          <a:prstGeom prst="rect">
            <a:avLst/>
          </a:prstGeom>
          <a:ln w="0">
            <a:noFill/>
          </a:ln>
        </p:spPr>
      </p:pic>
      <p:pic>
        <p:nvPicPr>
          <p:cNvPr id="91" name="logoStela" descr=""/>
          <p:cNvPicPr/>
          <p:nvPr/>
        </p:nvPicPr>
        <p:blipFill>
          <a:blip r:embed="rId3"/>
          <a:stretch/>
        </p:blipFill>
        <p:spPr>
          <a:xfrm>
            <a:off x="7848720" y="6108840"/>
            <a:ext cx="1041120" cy="52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3049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Diretório dos Grupos de Pesquisa no Brasil</a:t>
            </a: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ersão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squisa" descr=""/>
          <p:cNvPicPr/>
          <p:nvPr/>
        </p:nvPicPr>
        <p:blipFill>
          <a:blip r:embed="rId4"/>
          <a:stretch/>
        </p:blipFill>
        <p:spPr>
          <a:xfrm>
            <a:off x="1905120" y="1874880"/>
            <a:ext cx="5257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03:07:31Z</dcterms:created>
  <dc:creator>rcpauli</dc:creator>
  <dc:description/>
  <dc:language>en-US</dc:language>
  <cp:lastModifiedBy>Stela</cp:lastModifiedBy>
  <dcterms:modified xsi:type="dcterms:W3CDTF">2000-03-17T05:54:10Z</dcterms:modified>
  <cp:revision>18</cp:revision>
  <dc:subject/>
  <dc:title>Slide sem título </dc:title>
</cp:coreProperties>
</file>