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FCF-9475-4B89-9C8A-203D011A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B80-FC5C-4C89-A6E2-9F35E0AA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7E3-6FF3-4CFB-BAF9-75675693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83A-2044-45B3-A4D3-D3799617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BD0-6D44-43C4-B0D7-CE1A224B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FEB-0637-4FB5-943F-6B013D0D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70F-3B4A-455B-98CF-CBF8BE68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D79-FEB4-499F-A8E6-D6E606BA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4DB-B028-4A7A-9969-A9064A56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EF3-8090-4F55-8F07-E2C2AA6E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F9C-B23C-4704-A218-6A63DE5A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730-17A9-40E0-9223-3E6B4EB1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6AB3-AC62-4FE8-AAB0-2CF721A35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60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logo1" descr=""/>
          <p:cNvPicPr/>
          <p:nvPr/>
        </p:nvPicPr>
        <p:blipFill>
          <a:blip r:embed="rId2"/>
          <a:stretch/>
        </p:blipFill>
        <p:spPr>
          <a:xfrm>
            <a:off x="304920" y="6108840"/>
            <a:ext cx="1333440" cy="520560"/>
          </a:xfrm>
          <a:prstGeom prst="rect">
            <a:avLst/>
          </a:prstGeom>
          <a:ln w="0">
            <a:noFill/>
          </a:ln>
        </p:spPr>
      </p:pic>
      <p:pic>
        <p:nvPicPr>
          <p:cNvPr id="43" name="logoStela" descr=""/>
          <p:cNvPicPr/>
          <p:nvPr/>
        </p:nvPicPr>
        <p:blipFill>
          <a:blip r:embed="rId3"/>
          <a:stretch/>
        </p:blipFill>
        <p:spPr>
          <a:xfrm>
            <a:off x="7848720" y="6108840"/>
            <a:ext cx="1041120" cy="520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iretório dos Grupos de Pesquisa no Brasil</a:t>
            </a: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ersão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squisa" descr=""/>
          <p:cNvPicPr/>
          <p:nvPr/>
        </p:nvPicPr>
        <p:blipFill>
          <a:blip r:embed="rId4"/>
          <a:stretch/>
        </p:blipFill>
        <p:spPr>
          <a:xfrm>
            <a:off x="1905120" y="1874880"/>
            <a:ext cx="5257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1600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arga dos Grupos Receb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14600" y="2286000"/>
            <a:ext cx="64008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Nenhum grupo recebido é carregado automaticamente para a base do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 carga do grupo é uma decisão do diri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rupos carregados podem ser excluídos e recuperados nov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1600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ópia de segu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14600" y="2286000"/>
            <a:ext cx="6400800" cy="262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Funcionamento como backup u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uarda uma “fotografia” do momento da geração da cóp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Restauração da cópia de segurança (substituição da fotografia at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1600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nvio dos Grupos ao CNP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14600" y="2286000"/>
            <a:ext cx="6400800" cy="390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451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Apenas grupos carregados na base podem ser enviados ao CNP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451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upos carregados na base e não selecionados para envio </a:t>
            </a:r>
            <a:r>
              <a:rPr b="1" lang="pt-BR" sz="2400" spc="-1" strike="noStrike" u="sng">
                <a:solidFill>
                  <a:srgbClr val="003399"/>
                </a:solidFill>
                <a:uFillTx/>
                <a:latin typeface="Times New Roman"/>
              </a:rPr>
              <a:t>serão excluídos da base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451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era relatório (homepage) com a relação de grupos enviados ao CNP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451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Em caso de múltiplos envios, o CNPq considera apenas os grupos no arquivo mais rec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743200" y="2209680"/>
            <a:ext cx="5943600" cy="24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companhamento das atualizações dos grupos da v.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Relatórios (homep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Indicadores (exporta para Exc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1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ir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companhamento das atualizaç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43200" y="2209680"/>
            <a:ext cx="5943600" cy="25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ista dinâmica dos líderes da versão 3.0 que ainda não atualizaram os grup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Filtros para facilitar contato com os líd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latórios (homepag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743200" y="2209680"/>
            <a:ext cx="5943600" cy="21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rupos (versão 3.0 e versão 4.0). Individual ou coletivo (s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Sumário das informações da instituição (versões 3.0 e 4.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1447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ndicadores: Perfil da Pesqui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4191120"/>
            <a:ext cx="5410440" cy="21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upos da versão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upos da versão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Comparativo das vers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áficos (arquivo JP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Planilhas (arquivo Exc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2133720"/>
            <a:ext cx="4876920" cy="1861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a instituição……Área de Conhecimento</a:t>
            </a:r>
            <a:br>
              <a:rPr sz="2000"/>
            </a:b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99ff"/>
                </a:solidFill>
                <a:latin typeface="Times New Roman"/>
              </a:rPr>
              <a:t>órgão/unidade………..….área/grande área</a:t>
            </a:r>
            <a:br>
              <a:rPr sz="2000"/>
            </a:b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Grupos</a:t>
            </a:r>
            <a:br>
              <a:rPr sz="2000"/>
            </a:b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Pesquisadores (por titulação)</a:t>
            </a:r>
            <a:br>
              <a:rPr sz="2000"/>
            </a:b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Estudantes (por titulação)</a:t>
            </a:r>
            <a:br>
              <a:rPr sz="2000"/>
            </a:b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Linhas de pesqu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895480" y="1981080"/>
            <a:ext cx="53341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Para o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Instituição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, contatar COAV/SUP</a:t>
            </a:r>
            <a:br>
              <a:rPr sz="2800"/>
            </a:b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coav@cnpq.br</a:t>
            </a:r>
            <a:br>
              <a:rPr sz="2800"/>
            </a:b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Fone 61-34893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Ajuda no CNP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895480" y="1981080"/>
            <a:ext cx="5334120" cy="27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ogística  n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ff0000"/>
                </a:solidFill>
                <a:latin typeface="Times New Roman"/>
              </a:rPr>
              <a:t>Sistema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t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Garamond Bold"/>
              </a:rPr>
              <a:t>Apres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Gru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Prin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2209680"/>
            <a:ext cx="6553080" cy="29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Atualização dos dados da v. 3.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Importação de dados dos </a:t>
            </a:r>
            <a:r>
              <a:rPr b="1" i="1" lang="pt-BR" sz="2600" spc="-1" strike="noStrike">
                <a:solidFill>
                  <a:srgbClr val="003399"/>
                </a:solidFill>
                <a:latin typeface="Times New Roman"/>
              </a:rPr>
              <a:t>Currículos Lat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Homepage do grupo de pesqui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Transporte de dados entre computad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Verificação de er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Envio do grupo para a institui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1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í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5480" y="1981080"/>
            <a:ext cx="5334120" cy="27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ogística  n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t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Garamond Bold"/>
              </a:rPr>
              <a:t>Apres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Gru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tualização dos dados da v.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90920" y="2209680"/>
            <a:ext cx="6553080" cy="30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Aproveitamento de dados independente de conexão à Internet (arquivo *.gi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Após a identificação do líder o sistema apresenta seu(s) grupo(s) da versão 3.0. O líder poderá atualizar ou criar um novo grup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Importante: é necessário arquivo *.g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31240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Prin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Gru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1600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mportação de dados do Currículo Lat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90920" y="2209680"/>
            <a:ext cx="6553080" cy="282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O computador do líder deve estar conectado à Interne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Importa dados de identificação, pós-graduação e totais de produ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Dados curriculares importados não podem ser alterados pelo líder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1240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Prin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Gru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600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Homepage do Grupo de Pesqu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590920" y="2209680"/>
            <a:ext cx="6553080" cy="231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O relatório do grupo está em formato HTML e pode ser disponibilizado na Interne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O relatório ressalta os campos não informados para confe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1240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Prin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46483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Transporte de dados entre compu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5257800"/>
            <a:ext cx="6553080" cy="10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Salvar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e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Gru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447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Verificação de er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90920" y="2057400"/>
            <a:ext cx="6553080" cy="18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integridade, consistencia e obrigatoriedade de informaç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rupos com erros não podem ser enviados ao dirigente de pesqu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1240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Princip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3962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nvio de Grupos para 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4419720"/>
            <a:ext cx="6248160" cy="187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Necessidade de senha individu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Conexão 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26"/>
              </a:spcBef>
              <a:spcAft>
                <a:spcPts val="326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003399"/>
                </a:solidFill>
                <a:latin typeface="Times New Roman"/>
              </a:rPr>
              <a:t>Disponibilidade do serviço de grupos na institui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895480" y="1981080"/>
            <a:ext cx="53341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Para o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Grupo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, contatar Call Center do CNPq</a:t>
            </a:r>
            <a:br>
              <a:rPr sz="2800"/>
            </a:b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webadmin@cnpq.br</a:t>
            </a:r>
            <a:br>
              <a:rPr sz="2800"/>
            </a:b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cc3300"/>
                </a:solidFill>
                <a:latin typeface="Times New Roman"/>
              </a:rPr>
              <a:t>Fone 0800-6196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Ajuda no CNP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604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logo1" descr=""/>
          <p:cNvPicPr/>
          <p:nvPr/>
        </p:nvPicPr>
        <p:blipFill>
          <a:blip r:embed="rId2"/>
          <a:stretch/>
        </p:blipFill>
        <p:spPr>
          <a:xfrm>
            <a:off x="304920" y="6108840"/>
            <a:ext cx="1333440" cy="520560"/>
          </a:xfrm>
          <a:prstGeom prst="rect">
            <a:avLst/>
          </a:prstGeom>
          <a:ln w="0">
            <a:noFill/>
          </a:ln>
        </p:spPr>
      </p:pic>
      <p:pic>
        <p:nvPicPr>
          <p:cNvPr id="215" name="logoStela" descr=""/>
          <p:cNvPicPr/>
          <p:nvPr/>
        </p:nvPicPr>
        <p:blipFill>
          <a:blip r:embed="rId3"/>
          <a:stretch/>
        </p:blipFill>
        <p:spPr>
          <a:xfrm>
            <a:off x="7848720" y="6108840"/>
            <a:ext cx="1041120" cy="520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iretório dos Grupos de Pesquisa no Brasil</a:t>
            </a: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ersão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esquisa" descr=""/>
          <p:cNvPicPr/>
          <p:nvPr/>
        </p:nvPicPr>
        <p:blipFill>
          <a:blip r:embed="rId4"/>
          <a:stretch/>
        </p:blipFill>
        <p:spPr>
          <a:xfrm>
            <a:off x="1905120" y="1874880"/>
            <a:ext cx="5257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agrama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95480" y="1981080"/>
            <a:ext cx="5334120" cy="27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ogística  n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cc3300"/>
                </a:solidFill>
                <a:latin typeface="Times New Roman"/>
              </a:rPr>
              <a:t>Sistem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ten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Garamond Bold"/>
              </a:rPr>
              <a:t>Apres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43200" y="2209680"/>
            <a:ext cx="5334120" cy="36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Configu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erar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Fornecimento de sen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Envio de emails aos líd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Recepção dos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Carga dos grupos receb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Envio dos grupos ao CNP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1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ir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onfigu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43200" y="2209680"/>
            <a:ext cx="5334120" cy="27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og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Senhas individuais para líd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Recepção dos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Servidor de E-m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Gerar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</a:rPr>
              <a:t>Sistema Gru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14600" y="2590920"/>
            <a:ext cx="6400800" cy="19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rquivos de insta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Home page do Diretório n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eração para disqu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16002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Fornecimento de senhas &amp;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Envio de E-m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14600" y="2819520"/>
            <a:ext cx="6400800" cy="30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Facilidade do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Manutenção das contas de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íderes de grupos da v.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íderes de novos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Envio de E-mails individu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60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epção dos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14600" y="2286000"/>
            <a:ext cx="6400800" cy="285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 recepção é desvinculada do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Instituição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plicativo independente CNPqC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spcAft>
                <a:spcPts val="524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Deve-se manter o sistema de recepção de grupos </a:t>
            </a:r>
            <a:r>
              <a:rPr b="1" lang="pt-BR" sz="2800" spc="-1" strike="noStrike" u="sng">
                <a:solidFill>
                  <a:srgbClr val="003399"/>
                </a:solidFill>
                <a:uFillTx/>
                <a:latin typeface="Times New Roman"/>
              </a:rPr>
              <a:t>sempre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ativo, para que os líderes possam enviar seus gru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Utilização Bá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3:07:31Z</dcterms:created>
  <dc:creator>rcpauli</dc:creator>
  <dc:description/>
  <dc:language>en-US</dc:language>
  <cp:lastModifiedBy>Stela</cp:lastModifiedBy>
  <dcterms:modified xsi:type="dcterms:W3CDTF">2000-03-17T05:32:47Z</dcterms:modified>
  <cp:revision>46</cp:revision>
  <dc:subject/>
  <dc:title>Slide sem título </dc:title>
</cp:coreProperties>
</file>